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B2D-1245-4127-9B6F-FA89C59D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FADF-9263-47C5-8D07-A0F7AB75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3338-BE30-4844-9F3C-AC4A23CF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DFC-0D76-43EB-A4A4-EF3543D3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5BCD-ECC6-4AB8-AEA0-15404B33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C890-32A4-46EC-8816-F3F2A45A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F17A-A20F-44FE-9E82-67006557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A2C8-15F0-4BF6-BE2B-AF83BE68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F129-D5FD-4C36-AD85-511BFF01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87E1-3F4B-4434-95B7-0CB5AA95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78A6-55A7-443A-8E6E-58EB64B5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8B7-DB20-4E3F-8D1B-039165A5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8704-D84F-4E23-A6FA-BABF51A9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8FD2-6966-41D4-93DB-8FE6AA89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22C3-2AC6-47BB-A95D-DDD67CC3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032D-C001-4937-9CE4-C6B613B4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8112-8F58-4343-BADD-57F0CAE7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CBAB-0FD7-4DAB-9FF0-04F1EB6E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BC0-2B2D-4195-B639-97250E50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D416-D177-42DA-926E-860615D3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417-FA13-4EA9-9EB2-B81583DA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A18-883E-42B8-BA53-C4293611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22D-CC24-46C4-B516-043A42B8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2DED-A0A0-4A28-A152-F407624C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038A-9B1B-45A6-99A4-144E2B7BF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0A82-B379-4748-9890-EAB07F29E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8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c44"/>
                </a:solidFill>
                <a:latin typeface="Arial"/>
              </a:rPr>
              <a:t>Life</a:t>
            </a:r>
            <a:endParaRPr b="1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What is…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d “What is science” back at the beginning of the year.  Now, “What is lif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air, get out a piece of paper and make it like 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, what are the characteristics of life?  What must something have or be in order to be a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have your list, think of things you know are alive or you know are not.  Be sure that they fit your list of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90720" y="53352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bola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inted Tur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adkilled squir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ak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ther b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sp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yrannosaurus Rex fos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Streptococ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sh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ri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heck Your Answers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alk to another table and compare your lists.  Your job is to argue your point: prove to them that you are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put something in a different column than they did, convince them to mov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different characteristics of life than them, convince them to change theirs to y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Characteristics of Life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de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produ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tains and uses materials and energy (“metabolism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 a group, change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ponds to th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ows and devel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Living vs Non-Living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ving: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thing that is now or once was alive.  Also called “biotic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GANISM: A single individual or a type (like a species) of living 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IVE: An individual organism that currently has all the characteristics of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AD: An individual organism that once met all the characteristics of life but now isn’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-Living: Never was and never will be a living organism.  Also called “abiotic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Living vs. Non-Living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bola vi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inted Tur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oadkilled squir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ak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e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uter vi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ther b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gle sp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yrannosaurus Rex fos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gle Streptococ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ush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ri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Biodiversity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know already about the different kinds of living things on the Earth?  What are all the different ways of classifying things that you’ve heard o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class master list on the blackboard. Use diagrams, flowcharts, tables, or images if you remember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y terms as best you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c44"/>
                </a:solidFill>
                <a:latin typeface="Arial"/>
              </a:rPr>
              <a:t>Upcoming Material</a:t>
            </a:r>
            <a:endParaRPr b="0" lang="en-US" sz="4400" spc="-1" strike="noStrike">
              <a:solidFill>
                <a:srgbClr val="000c4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emester will be devoted to two main top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diversity = The diversity of life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s between major groups of living things.  (Taxonomy/Clas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loser look at the features of a small handful of groups of living th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actions between living things (individuals and groups) and their environment (including other individuals and group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4:25:39Z</dcterms:created>
  <dc:creator>Rebecca Stang</dc:creator>
  <dc:description/>
  <dc:language>en-US</dc:language>
  <cp:lastModifiedBy>Rebecca Stang</cp:lastModifiedBy>
  <dcterms:modified xsi:type="dcterms:W3CDTF">2009-02-01T20:35:43Z</dcterms:modified>
  <cp:revision>12</cp:revision>
  <dc:subject/>
  <dc:title>PowerPoint Presentation</dc:title>
</cp:coreProperties>
</file>